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DDA1-8F7E-4BB6-8B1D-AD98E6E28C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1AAB-9E51-4088-819F-40B522A5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2D04-28C4-456D-9915-9A1C2C75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0D6B-293A-424A-9B52-6A58BAE989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6A8-333B-422D-A931-94180007D0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376-A506-4F1D-A972-02437970EB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D36-D1D0-414C-A65A-2AA7EC5449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925-DAD8-43BA-B1BB-24F5385EDD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EF5-0FDA-4934-93B4-48DE14B705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F25-4F9C-457D-A1E2-E34062CBE3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060-DEB4-4DC0-84A7-7557522CEC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9871-7004-4A0A-9E15-5D8AB137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931-C84C-4E3A-8CD3-4741A6FD0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346-3195-4E98-863E-D6593A43E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296-6214-4215-B2F2-FE791C223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0F8B-94BE-43E5-9E3A-7E940188BA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A3A-86DF-4DC4-87AA-BBD4F95B2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7B07-E069-4483-A5A1-44F5DAB6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9A6D-509F-4409-BB07-6C453CFA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0BA4-6616-4229-BB3F-6BC16882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25D2-C702-4D54-AD44-CA35590A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9049-BB40-4469-8383-2C99FD6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0C2C-35AE-4B5D-97E7-90CAF7C8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FC08-C358-4C17-A8F5-1B76445B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252FF2F-4E84-41AB-A1C2-4C0059830A96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ril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0481832-27E0-4140-B4BB-085BBE047B80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95680" y="4572000"/>
            <a:ext cx="4191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System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Capture from MU Server via DNA\PRO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 Data Source Configuration via TPA 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2185920"/>
            <a:ext cx="6191280" cy="2486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29400" y="1295280"/>
            <a:ext cx="32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Capture from MU Server via DNA\PRO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 Captures Data via MU &amp; DNA\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 Cap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Protoco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to many relationship  (MU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difficult to explain Architecture to customer (DNA\PRO via 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training on NA, MU and T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ifficult for customers to add DNA’s to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(Filters are setup on the DNA\PRO before sending RTSM Data to MU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Capture from Local PC NIC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 Data Source Configuration via TPA 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28840" y="2290680"/>
            <a:ext cx="6288120" cy="2276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629400" y="1295280"/>
            <a:ext cx="32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Capture from Local PC NIC (filters)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5745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terface Card (Fil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4314960" cy="1685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576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PA Data Capture from a NIC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 Captures Data via the Local 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ck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ily Understood by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can use there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tamping ability of the NIC (PCR Ji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will only perform as well as the 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Rate capture 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(Filters are setup on the Local Client for the N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Questions and Answer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With The DNA\DNA PRO…..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\Pro feeds MU server the Data over the RTSM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 Server copies and forwards the RTSM data to the clients (TPA, SART, 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 Server maybe installed on the DNA PRO via Instrumen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Manager must be used to configure the second NIC port on the DNA PRO when MU is installed lo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Use Model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333680" y="1057320"/>
            <a:ext cx="331920" cy="8151840"/>
          </a:xfrm>
          <a:prstGeom prst="can">
            <a:avLst>
              <a:gd name="adj" fmla="val 1166"/>
            </a:avLst>
          </a:prstGeom>
          <a:blipFill rotWithShape="0">
            <a:blip r:embed="rId1">
              <a:alphaModFix amt="4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iple Pla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23880" y="1219320"/>
            <a:ext cx="1763640" cy="3614760"/>
            <a:chOff x="1523880" y="1219320"/>
            <a:chExt cx="1763640" cy="361476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669680" y="1816200"/>
              <a:ext cx="1289160" cy="12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523880" y="1219320"/>
              <a:ext cx="1763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12680" indent="-112680">
                <a:lnSpc>
                  <a:spcPct val="100000"/>
                </a:lnSpc>
                <a:spcAft>
                  <a:spcPts val="2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PA Client Softwar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Running on a 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6520" y="3144960"/>
              <a:ext cx="0" cy="168912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72000" y="914400"/>
            <a:ext cx="3225600" cy="3960720"/>
            <a:chOff x="4572000" y="914400"/>
            <a:chExt cx="3225600" cy="396072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4572000" y="3279600"/>
              <a:ext cx="170316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6229080" y="3236760"/>
              <a:ext cx="1381320" cy="6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flipH="1">
              <a:off x="6084360" y="3725640"/>
              <a:ext cx="17640" cy="114948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5729040" y="1717560"/>
              <a:ext cx="72252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4687920" y="1965240"/>
              <a:ext cx="72216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6818040" y="1989000"/>
              <a:ext cx="72252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H="1">
              <a:off x="6290640" y="2676600"/>
              <a:ext cx="887400" cy="58392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2360" y="2401920"/>
              <a:ext cx="7920" cy="85392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52960" y="2649600"/>
              <a:ext cx="888840" cy="663480"/>
            </a:xfrm>
            <a:prstGeom prst="line">
              <a:avLst/>
            </a:prstGeom>
            <a:ln w="38160">
              <a:solidFill>
                <a:srgbClr val="99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43360" y="914400"/>
              <a:ext cx="305424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12680" indent="-112680">
                <a:lnSpc>
                  <a:spcPct val="100000"/>
                </a:lnSpc>
                <a:spcAft>
                  <a:spcPts val="2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ulti-User Enviro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2680" indent="-112680">
                <a:lnSpc>
                  <a:spcPct val="100000"/>
                </a:lnSpc>
                <a:spcAft>
                  <a:spcPts val="2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PA Client Software Running on a 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2680" indent="-112680">
                <a:lnSpc>
                  <a:spcPct val="100000"/>
                </a:lnSpc>
                <a:spcAft>
                  <a:spcPts val="2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NA platform is Data 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Cloud"/>
          <p:cNvSpPr/>
          <p:nvPr/>
        </p:nvSpPr>
        <p:spPr>
          <a:xfrm>
            <a:off x="5638680" y="2666880"/>
            <a:ext cx="914400" cy="612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895480"/>
            <a:ext cx="160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cc"/>
                </a:solidFill>
                <a:latin typeface="Arial"/>
              </a:rPr>
              <a:t>MU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U System Architectur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4257720" y="2514600"/>
            <a:ext cx="2743200" cy="181440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11920" y="121932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1920" y="207000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11920" y="288288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9320" y="369576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1219320"/>
            <a:ext cx="1219320" cy="533160"/>
          </a:xfrm>
          <a:prstGeom prst="rect">
            <a:avLst/>
          </a:prstGeom>
          <a:gradFill rotWithShape="0">
            <a:gsLst>
              <a:gs pos="0">
                <a:srgbClr val="00004d"/>
              </a:gs>
              <a:gs pos="50000">
                <a:srgbClr val="000099"/>
              </a:gs>
              <a:gs pos="100000">
                <a:srgbClr val="00004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449568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05800" y="529596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5760" y="1523880"/>
            <a:ext cx="60948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1752480"/>
            <a:ext cx="0" cy="129564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400800" y="1447920"/>
            <a:ext cx="1143000" cy="175248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400800" y="2247840"/>
            <a:ext cx="1219320" cy="99072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62640" y="3022200"/>
            <a:ext cx="1295640" cy="22860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3276720"/>
            <a:ext cx="1219320" cy="45720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276720"/>
            <a:ext cx="1270080" cy="129528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3352680"/>
            <a:ext cx="1295280" cy="198144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14920" y="3200400"/>
            <a:ext cx="1600200" cy="380880"/>
            <a:chOff x="4714920" y="3200400"/>
            <a:chExt cx="1600200" cy="380880"/>
          </a:xfrm>
        </p:grpSpPr>
        <p:sp>
          <p:nvSpPr>
            <p:cNvPr id="125" name=""/>
            <p:cNvSpPr/>
            <p:nvPr/>
          </p:nvSpPr>
          <p:spPr>
            <a:xfrm>
              <a:off x="4714920" y="3200400"/>
              <a:ext cx="1600200" cy="380880"/>
            </a:xfrm>
            <a:prstGeom prst="rect">
              <a:avLst/>
            </a:prstGeom>
            <a:solidFill>
              <a:srgbClr val="99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67560" y="32446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hernet Sw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16000" y="1406520"/>
            <a:ext cx="4273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  <a:ea typeface="SimSu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657600" y="1676520"/>
            <a:ext cx="1066680" cy="167616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1380960" cy="617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514600" y="3809520"/>
            <a:ext cx="838080" cy="1295640"/>
          </a:xfrm>
          <a:prstGeom prst="line">
            <a:avLst/>
          </a:prstGeom>
          <a:ln w="38160">
            <a:solidFill>
              <a:srgbClr val="99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1447920" y="4848120"/>
            <a:ext cx="1676160" cy="110808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5257800"/>
            <a:ext cx="152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"/>
              </a:rPr>
              <a:t>Network Under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609480" cy="0"/>
          </a:xfrm>
          <a:prstGeom prst="line">
            <a:avLst/>
          </a:prstGeom>
          <a:ln w="38160">
            <a:solidFill>
              <a:srgbClr val="99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8840" y="1600200"/>
            <a:ext cx="8359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33"/>
                </a:solidFill>
                <a:latin typeface="Agilent TT Cond"/>
                <a:ea typeface="SimSun"/>
              </a:rPr>
              <a:t>3P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U System Architectur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36" name="Cloud"/>
          <p:cNvSpPr/>
          <p:nvPr/>
        </p:nvSpPr>
        <p:spPr>
          <a:xfrm>
            <a:off x="4257720" y="2514600"/>
            <a:ext cx="2743200" cy="181440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11920" y="121932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TP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11920" y="207000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N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11920" y="288288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TP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99320" y="369576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SART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219320"/>
            <a:ext cx="1219320" cy="533160"/>
          </a:xfrm>
          <a:prstGeom prst="rect">
            <a:avLst/>
          </a:prstGeom>
          <a:gradFill rotWithShape="0">
            <a:gsLst>
              <a:gs pos="0">
                <a:srgbClr val="00004d"/>
              </a:gs>
              <a:gs pos="50000">
                <a:srgbClr val="000099"/>
              </a:gs>
              <a:gs pos="100000">
                <a:srgbClr val="00004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Multi-User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05800" y="449568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TP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5295960"/>
            <a:ext cx="933480" cy="492120"/>
          </a:xfrm>
          <a:prstGeom prst="rect">
            <a:avLst/>
          </a:prstGeom>
          <a:gradFill rotWithShape="0">
            <a:gsLst>
              <a:gs pos="0">
                <a:srgbClr val="000039"/>
              </a:gs>
              <a:gs pos="50000">
                <a:srgbClr val="000099"/>
              </a:gs>
              <a:gs pos="100000">
                <a:srgbClr val="00003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ts val="1998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TPA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gilent TT Con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5760" y="1523880"/>
            <a:ext cx="609480" cy="0"/>
          </a:xfrm>
          <a:prstGeom prst="line">
            <a:avLst/>
          </a:prstGeom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1752480"/>
            <a:ext cx="0" cy="129564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400800" y="1447920"/>
            <a:ext cx="1143000" cy="1752480"/>
          </a:xfrm>
          <a:prstGeom prst="line">
            <a:avLst/>
          </a:prstGeom>
          <a:ln w="316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400800" y="2247840"/>
            <a:ext cx="1219320" cy="99072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362640" y="3022200"/>
            <a:ext cx="1295640" cy="228600"/>
          </a:xfrm>
          <a:prstGeom prst="line">
            <a:avLst/>
          </a:prstGeom>
          <a:ln w="316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3276720"/>
            <a:ext cx="1219320" cy="45720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3276720"/>
            <a:ext cx="1270080" cy="1295280"/>
          </a:xfrm>
          <a:prstGeom prst="line">
            <a:avLst/>
          </a:prstGeom>
          <a:ln w="316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3352680"/>
            <a:ext cx="1295280" cy="1981440"/>
          </a:xfrm>
          <a:prstGeom prst="line">
            <a:avLst/>
          </a:prstGeom>
          <a:ln w="3168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714920" y="3200400"/>
            <a:ext cx="1600200" cy="380880"/>
            <a:chOff x="4714920" y="3200400"/>
            <a:chExt cx="1600200" cy="380880"/>
          </a:xfrm>
        </p:grpSpPr>
        <p:sp>
          <p:nvSpPr>
            <p:cNvPr id="153" name=""/>
            <p:cNvSpPr/>
            <p:nvPr/>
          </p:nvSpPr>
          <p:spPr>
            <a:xfrm>
              <a:off x="4714920" y="3200400"/>
              <a:ext cx="1600200" cy="380880"/>
            </a:xfrm>
            <a:prstGeom prst="rect">
              <a:avLst/>
            </a:prstGeom>
            <a:solidFill>
              <a:srgbClr val="99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67560" y="32446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hernet Sw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116000" y="1406520"/>
            <a:ext cx="4273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  <a:ea typeface="SimSu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57600" y="1676520"/>
            <a:ext cx="1066680" cy="167616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1380960" cy="617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V="1">
            <a:off x="2514600" y="3885840"/>
            <a:ext cx="762120" cy="1219320"/>
          </a:xfrm>
          <a:prstGeom prst="line">
            <a:avLst/>
          </a:prstGeom>
          <a:ln w="38160">
            <a:solidFill>
              <a:srgbClr val="99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loud"/>
          <p:cNvSpPr/>
          <p:nvPr/>
        </p:nvSpPr>
        <p:spPr>
          <a:xfrm>
            <a:off x="1447920" y="4848120"/>
            <a:ext cx="1676160" cy="110808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5257800"/>
            <a:ext cx="152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"/>
              </a:rPr>
              <a:t>Network Under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609480" cy="0"/>
          </a:xfrm>
          <a:prstGeom prst="line">
            <a:avLst/>
          </a:prstGeom>
          <a:ln w="38160">
            <a:solidFill>
              <a:srgbClr val="99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8840" y="1600200"/>
            <a:ext cx="8359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33"/>
                </a:solidFill>
                <a:latin typeface="Agilent TT Cond"/>
                <a:ea typeface="SimSun"/>
              </a:rPr>
              <a:t>3P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381320" cy="617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 flipV="1">
            <a:off x="1981080" y="3504960"/>
            <a:ext cx="152640" cy="1447560"/>
          </a:xfrm>
          <a:prstGeom prst="line">
            <a:avLst/>
          </a:prstGeom>
          <a:ln w="38160">
            <a:solidFill>
              <a:srgbClr val="99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6000" y="1600200"/>
            <a:ext cx="2438280" cy="1371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828800"/>
            <a:ext cx="609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96920" y="1752480"/>
            <a:ext cx="4273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gilent TT Cond"/>
                <a:ea typeface="SimSu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MU Server Control of DNA\PRO</a:t>
            </a:r>
            <a:br>
              <a:rPr sz="2400"/>
            </a:b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937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MU Server Control of DNA\PRO</a:t>
            </a:r>
            <a:br>
              <a:rPr sz="2400"/>
            </a:b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81240" y="598320"/>
            <a:ext cx="70246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Instrument Manager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Instrument Manager RTSM Setup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32240" y="838080"/>
            <a:ext cx="4079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14:34Z</dcterms:created>
  <dc:creator>Michael Stevens</dc:creator>
  <dc:description/>
  <dc:language>en-US</dc:language>
  <cp:lastModifiedBy>Michael Stevens</cp:lastModifiedBy>
  <dcterms:modified xsi:type="dcterms:W3CDTF">2007-06-07T13:39:36Z</dcterms:modified>
  <cp:revision>21</cp:revision>
  <dc:subject/>
  <dc:title>Slide 1</dc:title>
</cp:coreProperties>
</file>